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289B-DDBE-48A9-994C-3F18DEB3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6F84-20BE-43D4-BA01-201EE090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43A7-E8D2-49D5-8BE7-BC99AC31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91C-1D14-48F5-935A-41BC23AB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F59C-FEFE-4BC8-9745-0A4C86AD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CFB0-EC74-4140-99E2-3C449912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A93F-BB22-4740-A43F-8BB9D4F1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4319-55A3-4C8A-A8BE-C8275B9A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6DC9-0004-4615-B82E-9C56A818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7164-99A0-473D-82B1-DEA6E889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E428-DE11-4C26-BDAA-C1DE63E8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EE6-1290-47BD-923F-6A21CF78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D154-4112-4726-A1EB-A898E405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F8FD-34A5-4DFE-B93D-B044878B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AB3B-010C-4612-A475-139274BB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A15F-B3B8-4A3F-ACF2-7A5829C2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A9D9-8EAB-4685-B14D-A956E27D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1E3C-593A-4C69-86B8-739A9912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CB13-2C45-40DE-B32B-58F9EF5A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50E-B822-488D-B853-88A1FE40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D224-598F-48BF-B886-082B0899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4E4-B5D0-4387-8CC6-4762D1F2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5B0-9750-4304-8224-6BFFB82D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AA9-6780-4AB5-9B05-975A5036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1797-EFE4-4DE3-A6B7-C0C8B532757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951D-B6A5-4E9B-8A88-1EEE316A013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75080" y="1219320"/>
            <a:ext cx="443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457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 Com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3089160" cy="4267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1668600"/>
            <a:ext cx="1067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2133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Ben Sturg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desayun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 Gusta C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ela la en la vida vis c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448920" cy="7066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47920" y="152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desayu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243828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e Gusta c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3581280" cy="2578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5943600"/>
            <a:ext cx="40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ane La en la vida vis c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105680" y="0"/>
            <a:ext cx="2038320" cy="2800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629400" y="304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Jugo de guaya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343400" y="-152280"/>
            <a:ext cx="2400480" cy="2247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3434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 clemen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59436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agel con mantequila de m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486400" y="3581280"/>
            <a:ext cx="3429000" cy="243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1600" y="685800"/>
            <a:ext cx="1962000" cy="1308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43000" y="2057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Tahoma"/>
              </a:rPr>
              <a:t>pan franc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5800" y="1066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l almuer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2614680" cy="2183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9480" y="4038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</a:rPr>
              <a:t>tocino y queso quesadi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16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e gusta com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3276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</a:rPr>
              <a:t>chocolate con le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010280" y="228600"/>
            <a:ext cx="1847880" cy="1847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086600" y="2209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Sa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6172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</a:rPr>
              <a:t>rojo manzana delicio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523880" y="4800600"/>
            <a:ext cx="1447920" cy="1415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257800" y="3809880"/>
            <a:ext cx="2400480" cy="2581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657600" y="30481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acarrones con qu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5181480" y="1523880"/>
            <a:ext cx="10368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8380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a Cen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191040" cy="2143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41911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41911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1148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queso para piz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324480" y="304920"/>
            <a:ext cx="2586240" cy="2585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19920" y="30481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astones de mozzarella con salsa miel mosta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60958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s dedos de po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143000" y="4572000"/>
            <a:ext cx="2286000" cy="1519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3733920"/>
            <a:ext cx="1306440" cy="1595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095880" y="3886200"/>
            <a:ext cx="1486080" cy="1335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791320" y="5410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é helado de man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33526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atata fri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657600" y="1523880"/>
            <a:ext cx="213372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0880" y="1447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Postr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952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ousse de choco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orbete de sand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3341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arras de co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2209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raíz del flotador de cerve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2857680" cy="2724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429000" y="3048120"/>
            <a:ext cx="1738440" cy="2319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638680" y="2971800"/>
            <a:ext cx="2657520" cy="1990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181480" y="228600"/>
            <a:ext cx="2114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07:42Z</dcterms:created>
  <dc:creator>sturgisben</dc:creator>
  <dc:description/>
  <dc:language>en-US</dc:language>
  <cp:lastModifiedBy>sturgisben</cp:lastModifiedBy>
  <dcterms:modified xsi:type="dcterms:W3CDTF">2012-04-05T14:09:23Z</dcterms:modified>
  <cp:revision>4</cp:revision>
  <dc:subject/>
  <dc:title>Slide 1</dc:title>
</cp:coreProperties>
</file>